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5A9-ADF6-46AD-944F-CDC25B61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D0E-F66D-44EB-BE2C-33BB1C35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15E-C3C0-4300-8873-85C8AF3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AD0-7B9A-4230-927A-52CC5EF4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D65-E86D-4275-B378-5092197E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4A9-3AF5-4E2B-8310-AC71B466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6D1-6BB8-4070-845E-B0F8599C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AD4-16B8-4E85-BCCC-998E208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7DE-B572-4B69-9C87-C36241D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388-4BF6-4968-8050-540FFEDF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E86-1258-44D6-9C40-D05BB16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989-F6BB-4386-95B7-7C03FB4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F99-4236-42C1-8853-F9FFCC4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6167-3599-4335-9CC8-65E76181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17.xml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" Target="slide18.xml"/><Relationship Id="rId8" Type="http://schemas.openxmlformats.org/officeDocument/2006/relationships/slide" Target="slide23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ts of a Book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2387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nt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br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640" y="1295280"/>
            <a:ext cx="767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page is located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ront of the book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ins chapter title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age numbers 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y can be found in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609480"/>
            <a:ext cx="5791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introductory part of the book in which the author acknowledges others for their help and encourag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066680"/>
            <a:ext cx="586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section of the book is located near the back of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provides key words from th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ong with brief definition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1752480"/>
            <a:ext cx="5333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brief summary of the book often found on the book j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on the back of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1600200"/>
            <a:ext cx="6151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ist of sources (books, websites, magazines, etc.) used to 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for the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1652760"/>
            <a:ext cx="7086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ection in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 of the book t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s key topics of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the pages where tho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ics can be found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1752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19320" y="609480"/>
            <a:ext cx="6400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is supplemental material, found at the end of the book, often contains charts, graphs, tables, etc. related to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of the text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9880" y="1752480"/>
            <a:ext cx="739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are usually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book in large or b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t at the beginning of 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of the book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447920"/>
            <a:ext cx="8177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are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neath a photograph, char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map explaining what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ppening in the picture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lustration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828800"/>
            <a:ext cx="5638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type of print is used in texts to make wor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and 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r appea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arg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57280" y="2514600"/>
            <a:ext cx="64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book of map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380880"/>
            <a:ext cx="6477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the paper or pla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ted covering of a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is found on the out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book which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of the book, the author, a colorful photo, and often a brief synopsis of the book and some biographical information on the author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175248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sentence of a paragraph that gives the main idea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92640" y="1671480"/>
            <a:ext cx="606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book writt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 a person b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one els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1219320"/>
            <a:ext cx="6086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book writt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 a person b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t per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143000"/>
            <a:ext cx="5334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book that contains information that is not fiction; the information contained is true and real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09680" y="1752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7400" y="838080"/>
            <a:ext cx="495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book that contains information that is made up from the author’s imagin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219320"/>
            <a:ext cx="7105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ype of book in the library including atlases, almanacs, dictionaries, encyclopedias, and thesauruses.  These books are not meant to be taken from the libr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ts of a Book Jeopard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990720"/>
          <a:ext cx="8381880" cy="5746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nt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d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br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lo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p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yclop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so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nop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bi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ctio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dication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bli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ld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F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sau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 J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man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ace 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end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pic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600200"/>
            <a:ext cx="7086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books are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phabetically arranged set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d to find facts about people, plac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nts, or th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205740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phabetically arranged book containing word spellings, pronunciations, parts of speech, and the defini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1447920"/>
            <a:ext cx="601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containing synonyms and antonyms of particular words.  Can be helpful in adding variety to your wri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1143000"/>
            <a:ext cx="5410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containing information and statistics about popular events. Usually an update is published each y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2480" y="762120"/>
            <a:ext cx="5639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“business p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the book, this is one of the first few pages of a book, containing the title, author, publisher, and the place of public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066680"/>
            <a:ext cx="53337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verse of the Title Page, this page usually co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pyright d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914400"/>
            <a:ext cx="6400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nformation, located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ont of the book, is written by the author or another authorit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 which gives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for the boo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Marla Moore</cp:lastModifiedBy>
  <dcterms:modified xsi:type="dcterms:W3CDTF">2009-04-03T19:19:01Z</dcterms:modified>
  <cp:revision>60</cp:revision>
  <dc:subject/>
  <dc:title>Slide 1</dc:title>
</cp:coreProperties>
</file>